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22F4-B849-4B5F-90E8-1EE292B64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80D3-F1D9-49DF-A083-9A88B08C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419E-B9CA-4132-92E7-D224A49ED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1949-0872-4286-84E4-E83FB31F8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CC80-8CAF-4E2E-8C75-9859F6B1F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AF435-EE23-4DD8-BCF2-094FCA28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05D0-1DCF-4689-8B17-9F1E518E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D3F2-07DF-4E82-92E4-DAD461C0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2C87-4058-46F6-BE85-286760F6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C56A-D3E4-4DA5-B98C-FAFBE667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7278-62AA-4EB6-BD5E-53C56908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22C5-32BA-4779-AAA7-38A43FA2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D6A5-803A-4E74-9163-3DECC180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A0C7-16D2-4B8D-A9B4-B1941E38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4692-8C4A-4C0A-9C24-7EF19709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B91C-0DB3-46B2-8CCE-5164580CB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A339-01E0-4BFA-BFA5-FAAA880B0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E198-B8C2-4CCF-AB44-1A514E5C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0B73-3BE0-42CD-812A-807F40C9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B1D2-D67A-4897-9937-807C65C7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ACBB-13E5-4C0D-B74C-284047A7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DC4C-3761-4DF9-8891-7564D67D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46FE-13A6-43B9-835A-758257F9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FDB2-66B1-43DA-9258-EE761AFF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6F29-D4AA-416F-8F40-916033FB236A}" type="datetime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Footer Text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32C1-FADB-4CA0-A84B-9078625FC11B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5879-A7E6-4561-8BD1-C790EF3BB409}" type="datetime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Footer Text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E72C-3953-46BF-B96F-8925E03B5BB6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60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0" spc="-1" strike="noStrike">
                <a:solidFill>
                  <a:srgbClr val="2f5897"/>
                </a:solidFill>
                <a:latin typeface="Palatino Linotype"/>
              </a:rPr>
              <a:t>Giochi Sportivi Studenteschi</a:t>
            </a:r>
            <a:endParaRPr b="0" lang="en-US" sz="8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03280" y="3715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898989"/>
                </a:solidFill>
                <a:latin typeface="Century Gothic"/>
              </a:rPr>
              <a:t>Note per l’utilizzo della piattaforma informatica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1" name="Segnaposto data 3"/>
          <p:cNvSpPr/>
          <p:nvPr/>
        </p:nvSpPr>
        <p:spPr>
          <a:xfrm>
            <a:off x="636264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a.s. 2012/13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2" name="Segnaposto numero diapositiva 4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60D2-EAF9-4449-A52A-39235974582D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3" name="Segnaposto piè di pagina 5"/>
          <p:cNvSpPr/>
          <p:nvPr/>
        </p:nvSpPr>
        <p:spPr>
          <a:xfrm>
            <a:off x="65880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www.giochisportivistudenteschi.it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2f5897"/>
                </a:solidFill>
                <a:latin typeface="Palatino Linotype"/>
              </a:rPr>
              <a:t>Home pag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95" name="Segnaposto contenuto 6" descr=""/>
          <p:cNvPicPr/>
          <p:nvPr/>
        </p:nvPicPr>
        <p:blipFill>
          <a:blip r:embed="rId2"/>
          <a:stretch/>
        </p:blipFill>
        <p:spPr>
          <a:xfrm>
            <a:off x="250920" y="907920"/>
            <a:ext cx="5240160" cy="4465800"/>
          </a:xfrm>
          <a:prstGeom prst="rect">
            <a:avLst/>
          </a:prstGeom>
          <a:ln w="0">
            <a:noFill/>
          </a:ln>
        </p:spPr>
      </p:pic>
      <p:sp>
        <p:nvSpPr>
          <p:cNvPr id="96" name="Segnaposto data 3"/>
          <p:cNvSpPr/>
          <p:nvPr/>
        </p:nvSpPr>
        <p:spPr>
          <a:xfrm>
            <a:off x="636264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a.s. 2012/13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7" name="Segnaposto piè di pagina 4"/>
          <p:cNvSpPr/>
          <p:nvPr/>
        </p:nvSpPr>
        <p:spPr>
          <a:xfrm>
            <a:off x="65880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login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8" name="Segnaposto numero diapositiva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4FA9-998A-4C9E-B385-43DACC4D50F3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9" name="CasellaDiTesto 8"/>
          <p:cNvSpPr/>
          <p:nvPr/>
        </p:nvSpPr>
        <p:spPr>
          <a:xfrm>
            <a:off x="5724360" y="981000"/>
            <a:ext cx="2951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Palatino Linotype"/>
              </a:rPr>
              <a:t>Nella Home page si trova il LOGIN per entrare nelle pagine riservate per l’adesione ai giochi e le iscrizioni alle discipline e dei singoli alunni.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0" name="CasellaDiTesto 9"/>
          <p:cNvSpPr/>
          <p:nvPr/>
        </p:nvSpPr>
        <p:spPr>
          <a:xfrm>
            <a:off x="5724360" y="2268360"/>
            <a:ext cx="29512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Palatino Linotype"/>
              </a:rPr>
              <a:t>1 - Al primo accesso bisognerà richiedere la password inserendo il codice meccanografico nella </a:t>
            </a:r>
            <a:r>
              <a:rPr b="0" lang="it-IT" sz="1400" spc="-1" strike="noStrike" u="sng">
                <a:solidFill>
                  <a:srgbClr val="000000"/>
                </a:solidFill>
                <a:uFillTx/>
                <a:latin typeface="Palatino Linotype"/>
              </a:rPr>
              <a:t>stringa di testo </a:t>
            </a:r>
            <a:r>
              <a:rPr b="0" lang="it-IT" sz="1400" spc="-1" strike="noStrike">
                <a:solidFill>
                  <a:srgbClr val="000000"/>
                </a:solidFill>
                <a:latin typeface="Palatino Linotype"/>
              </a:rPr>
              <a:t>e cliccare su 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0000"/>
                </a:solidFill>
                <a:latin typeface="Palatino Linotype"/>
              </a:rPr>
              <a:t>Invio i dati</a:t>
            </a:r>
            <a:r>
              <a:rPr b="0" lang="it-IT" sz="1400" spc="-1" strike="noStrike">
                <a:solidFill>
                  <a:srgbClr val="000000"/>
                </a:solidFill>
                <a:latin typeface="Palatino Linotype"/>
              </a:rPr>
              <a:t>, quindi attendere l’invio, sulla posta elettronica istituzionale, della password. Tale procedura sarà utile anche nel caso che si sia dimenticata la password.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cxnSp>
        <p:nvCxnSpPr>
          <p:cNvPr id="101" name="Connettore 2 11"/>
          <p:cNvCxnSpPr/>
          <p:nvPr/>
        </p:nvCxnSpPr>
        <p:spPr>
          <a:xfrm flipH="1">
            <a:off x="1692000" y="3149640"/>
            <a:ext cx="4116960" cy="1792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2" name="CasellaDiTesto 15"/>
          <p:cNvSpPr/>
          <p:nvPr/>
        </p:nvSpPr>
        <p:spPr>
          <a:xfrm>
            <a:off x="5821200" y="4508640"/>
            <a:ext cx="2880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Palatino Linotype"/>
              </a:rPr>
              <a:t>2 - Negli accessi successivi bisognerà inserire: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Palatino Linotype"/>
              </a:rPr>
              <a:t>Codice meccanografico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Palatino Linotype"/>
              </a:rPr>
              <a:t>Password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Palatino Linotype"/>
              </a:rPr>
              <a:t>Negli appositi spazi e cliccare su 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0000"/>
                </a:solidFill>
                <a:latin typeface="Palatino Linotype"/>
              </a:rPr>
              <a:t>Invio i dati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cxnSp>
        <p:nvCxnSpPr>
          <p:cNvPr id="103" name="Connettore 2 17"/>
          <p:cNvCxnSpPr/>
          <p:nvPr/>
        </p:nvCxnSpPr>
        <p:spPr>
          <a:xfrm flipH="1" flipV="1">
            <a:off x="1692360" y="2707560"/>
            <a:ext cx="4248360" cy="2377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4" name="Connettore 2 19"/>
          <p:cNvCxnSpPr/>
          <p:nvPr/>
        </p:nvCxnSpPr>
        <p:spPr>
          <a:xfrm flipH="1" flipV="1">
            <a:off x="1692360" y="3148920"/>
            <a:ext cx="4248360" cy="2151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5" name="Connettore 2 23"/>
          <p:cNvCxnSpPr/>
          <p:nvPr/>
        </p:nvCxnSpPr>
        <p:spPr>
          <a:xfrm flipH="1" flipV="1">
            <a:off x="610920" y="3284280"/>
            <a:ext cx="5256720" cy="2448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6" name="Connettore 2 25"/>
          <p:cNvCxnSpPr/>
          <p:nvPr/>
        </p:nvCxnSpPr>
        <p:spPr>
          <a:xfrm flipH="1">
            <a:off x="610560" y="3357360"/>
            <a:ext cx="5198040" cy="1727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2f5897"/>
                </a:solidFill>
                <a:latin typeface="Palatino Linotype"/>
              </a:rPr>
              <a:t>Accesso area riservata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08" name="Segnaposto contenuto 6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5672160" cy="4525920"/>
          </a:xfrm>
          <a:prstGeom prst="rect">
            <a:avLst/>
          </a:prstGeom>
          <a:ln w="0">
            <a:noFill/>
          </a:ln>
        </p:spPr>
      </p:pic>
      <p:sp>
        <p:nvSpPr>
          <p:cNvPr id="109" name="Segnaposto data 3"/>
          <p:cNvSpPr/>
          <p:nvPr/>
        </p:nvSpPr>
        <p:spPr>
          <a:xfrm>
            <a:off x="636264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a.s. 2012/13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0" name="Segnaposto piè di pagina 4"/>
          <p:cNvSpPr/>
          <p:nvPr/>
        </p:nvSpPr>
        <p:spPr>
          <a:xfrm>
            <a:off x="65880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Accesso area riservata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1" name="Segnaposto numero diapositiva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C708-6E6F-4F63-844C-450E281D68ED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2" name="CasellaDiTesto 8"/>
          <p:cNvSpPr/>
          <p:nvPr/>
        </p:nvSpPr>
        <p:spPr>
          <a:xfrm>
            <a:off x="6084720" y="1268280"/>
            <a:ext cx="2590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Palatino Linotype"/>
              </a:rPr>
              <a:t>Dopo aver inserito il login si entra nelle pagine riservate alle istituzioni scolastiche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Palatino Linotype"/>
              </a:rPr>
              <a:t>In alto a sinistra in automatico sono riportate i dati della scuola.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cxnSp>
        <p:nvCxnSpPr>
          <p:cNvPr id="113" name="Connettore 2 10"/>
          <p:cNvCxnSpPr/>
          <p:nvPr/>
        </p:nvCxnSpPr>
        <p:spPr>
          <a:xfrm flipH="1">
            <a:off x="1835280" y="2133720"/>
            <a:ext cx="4249800" cy="521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4" name="CasellaDiTesto 11"/>
          <p:cNvSpPr/>
          <p:nvPr/>
        </p:nvSpPr>
        <p:spPr>
          <a:xfrm>
            <a:off x="6072120" y="3960720"/>
            <a:ext cx="259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Palatino Linotype"/>
              </a:rPr>
              <a:t>Nel riquadro sottostante  dovranno essere inseriti i dati del docente referente.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cxnSp>
        <p:nvCxnSpPr>
          <p:cNvPr id="115" name="Connettore 2 13"/>
          <p:cNvCxnSpPr/>
          <p:nvPr/>
        </p:nvCxnSpPr>
        <p:spPr>
          <a:xfrm flipH="1">
            <a:off x="1978920" y="4220640"/>
            <a:ext cx="410580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6" name="Connettore 2 14"/>
          <p:cNvCxnSpPr/>
          <p:nvPr/>
        </p:nvCxnSpPr>
        <p:spPr>
          <a:xfrm flipH="1">
            <a:off x="1978920" y="5013000"/>
            <a:ext cx="410580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7" name="CasellaDiTesto 15"/>
          <p:cNvSpPr/>
          <p:nvPr/>
        </p:nvSpPr>
        <p:spPr>
          <a:xfrm>
            <a:off x="6084720" y="4869000"/>
            <a:ext cx="257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Palatino Linotype"/>
              </a:rPr>
              <a:t>Quindi salvare i dati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Segnaposto contenuto 6" descr=""/>
          <p:cNvPicPr/>
          <p:nvPr/>
        </p:nvPicPr>
        <p:blipFill>
          <a:blip r:embed="rId2"/>
          <a:stretch/>
        </p:blipFill>
        <p:spPr>
          <a:xfrm>
            <a:off x="250920" y="692280"/>
            <a:ext cx="3552840" cy="5616360"/>
          </a:xfrm>
          <a:prstGeom prst="rect">
            <a:avLst/>
          </a:prstGeom>
          <a:ln w="0">
            <a:noFill/>
          </a:ln>
        </p:spPr>
      </p:pic>
      <p:sp>
        <p:nvSpPr>
          <p:cNvPr id="119" name="Segnaposto data 3"/>
          <p:cNvSpPr/>
          <p:nvPr/>
        </p:nvSpPr>
        <p:spPr>
          <a:xfrm>
            <a:off x="636264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a.s. 2012/13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0" name="Segnaposto piè di pagina 4"/>
          <p:cNvSpPr/>
          <p:nvPr/>
        </p:nvSpPr>
        <p:spPr>
          <a:xfrm>
            <a:off x="65880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1" name="Segnaposto numero diapositiva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86D9-BAAA-485B-935B-44ED3D34CFF4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2f5897"/>
                </a:solidFill>
                <a:latin typeface="Palatino Linotype"/>
              </a:rPr>
              <a:t>STEP 1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3" name="CasellaDiTesto 8"/>
          <p:cNvSpPr/>
          <p:nvPr/>
        </p:nvSpPr>
        <p:spPr>
          <a:xfrm>
            <a:off x="4067280" y="907920"/>
            <a:ext cx="48258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Palatino Linotype"/>
              </a:rPr>
              <a:t>Nel primo riquadro dovranno essere inseriti i dati generali dell’Istituzione scolastica comprese le sedi associate: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Palatino Linotype"/>
              </a:rPr>
              <a:t>N. docenti Ed. Fisica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Palatino Linotype"/>
              </a:rPr>
              <a:t>N. alunni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Palatino Linotype"/>
              </a:rPr>
              <a:t>N. alunni disabili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Palatino Linotype"/>
              </a:rPr>
              <a:t>N. classi in organico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cxnSp>
        <p:nvCxnSpPr>
          <p:cNvPr id="124" name="Connettore 2 10"/>
          <p:cNvCxnSpPr/>
          <p:nvPr/>
        </p:nvCxnSpPr>
        <p:spPr>
          <a:xfrm flipH="1">
            <a:off x="3491640" y="1484280"/>
            <a:ext cx="575640" cy="118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5" name="Connettore 1 12"/>
          <p:cNvSpPr/>
          <p:nvPr/>
        </p:nvSpPr>
        <p:spPr>
          <a:xfrm>
            <a:off x="4067280" y="907920"/>
            <a:ext cx="0" cy="122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6" name="CasellaDiTesto 13"/>
          <p:cNvSpPr/>
          <p:nvPr/>
        </p:nvSpPr>
        <p:spPr>
          <a:xfrm>
            <a:off x="4062240" y="2414520"/>
            <a:ext cx="4608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Palatino Linotype"/>
              </a:rPr>
              <a:t>Nel secondo riquadro inserire i dati della delibera dell’istituzione del Centro Sportivo Scolastico, dato che trattasi di istituzione la data e il numero della delibera potrebbero fare riferimento alla prima «istituzione» negli anni passati.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cxnSp>
        <p:nvCxnSpPr>
          <p:cNvPr id="127" name="Connettore 2 15"/>
          <p:cNvCxnSpPr/>
          <p:nvPr/>
        </p:nvCxnSpPr>
        <p:spPr>
          <a:xfrm flipH="1">
            <a:off x="3202920" y="2924280"/>
            <a:ext cx="864360" cy="218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8" name="Connettore 1 17"/>
          <p:cNvSpPr/>
          <p:nvPr/>
        </p:nvSpPr>
        <p:spPr>
          <a:xfrm>
            <a:off x="4067280" y="2414520"/>
            <a:ext cx="0" cy="1079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cxnSp>
        <p:nvCxnSpPr>
          <p:cNvPr id="129" name="Connettore 2 19"/>
          <p:cNvCxnSpPr/>
          <p:nvPr/>
        </p:nvCxnSpPr>
        <p:spPr>
          <a:xfrm flipH="1" flipV="1">
            <a:off x="2627280" y="3572640"/>
            <a:ext cx="1440360" cy="143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0" name="Connettore 2 21"/>
          <p:cNvCxnSpPr/>
          <p:nvPr/>
        </p:nvCxnSpPr>
        <p:spPr>
          <a:xfrm flipH="1" flipV="1">
            <a:off x="3634560" y="3860280"/>
            <a:ext cx="505800" cy="145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1" name="CasellaDiTesto 22"/>
          <p:cNvSpPr/>
          <p:nvPr/>
        </p:nvSpPr>
        <p:spPr>
          <a:xfrm>
            <a:off x="4062240" y="3573360"/>
            <a:ext cx="431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Palatino Linotype"/>
              </a:rPr>
              <a:t>Caricare il file della delibera 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2" name="CasellaDiTesto 23"/>
          <p:cNvSpPr/>
          <p:nvPr/>
        </p:nvSpPr>
        <p:spPr>
          <a:xfrm>
            <a:off x="4070520" y="3881520"/>
            <a:ext cx="43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Palatino Linotype"/>
              </a:rPr>
              <a:t>quindi salvare tutti i dati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3" name="CasellaDiTesto 24"/>
          <p:cNvSpPr/>
          <p:nvPr/>
        </p:nvSpPr>
        <p:spPr>
          <a:xfrm>
            <a:off x="3887640" y="4869000"/>
            <a:ext cx="4932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Palatino Linotype"/>
              </a:rPr>
              <a:t>Inserimento massimo degli alunni, è possibile inserire tutti gli alunni scaricando i dati da qualsiasi software gestionale (SIDI, SISSI, ARGO etc.) scaricare il file dal programma in formato CSV e 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Palatino Linotype"/>
              </a:rPr>
              <a:t>caricarlo sulla piattaforma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cxnSp>
        <p:nvCxnSpPr>
          <p:cNvPr id="134" name="Connettore 2 26"/>
          <p:cNvCxnSpPr/>
          <p:nvPr/>
        </p:nvCxnSpPr>
        <p:spPr>
          <a:xfrm flipH="1">
            <a:off x="3492000" y="5229000"/>
            <a:ext cx="39600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5" name="Connettore 2 28"/>
          <p:cNvCxnSpPr/>
          <p:nvPr/>
        </p:nvCxnSpPr>
        <p:spPr>
          <a:xfrm flipH="1">
            <a:off x="3583800" y="5876640"/>
            <a:ext cx="35964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Segnaposto contenuto 6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4857840" cy="5904000"/>
          </a:xfrm>
          <a:prstGeom prst="rect">
            <a:avLst/>
          </a:prstGeom>
          <a:ln w="0">
            <a:noFill/>
          </a:ln>
        </p:spPr>
      </p:pic>
      <p:sp>
        <p:nvSpPr>
          <p:cNvPr id="137" name="Segnaposto data 3"/>
          <p:cNvSpPr/>
          <p:nvPr/>
        </p:nvSpPr>
        <p:spPr>
          <a:xfrm>
            <a:off x="636264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a.s. 2012/13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8" name="Segnaposto piè di pagina 4"/>
          <p:cNvSpPr/>
          <p:nvPr/>
        </p:nvSpPr>
        <p:spPr>
          <a:xfrm>
            <a:off x="65880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9" name="Segnaposto numero diapositiva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FB1A-7657-43D5-9C6D-FC1CC003D144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2f5897"/>
                </a:solidFill>
                <a:latin typeface="Palatino Linotype"/>
              </a:rPr>
              <a:t>STEP 2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1" name="CasellaDiTesto 7"/>
          <p:cNvSpPr/>
          <p:nvPr/>
        </p:nvSpPr>
        <p:spPr>
          <a:xfrm>
            <a:off x="5003640" y="1413000"/>
            <a:ext cx="374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Palatino Linotype"/>
              </a:rPr>
              <a:t>Indicare se si tratta di scuola statale o paritaria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2" name="CasellaDiTesto 9"/>
          <p:cNvSpPr/>
          <p:nvPr/>
        </p:nvSpPr>
        <p:spPr>
          <a:xfrm>
            <a:off x="5076720" y="2041560"/>
            <a:ext cx="370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Palatino Linotype"/>
              </a:rPr>
              <a:t>Spuntare la casella «</a:t>
            </a:r>
            <a:r>
              <a:rPr b="0" i="1" lang="it-IT" sz="1400" spc="-1" strike="noStrike">
                <a:solidFill>
                  <a:srgbClr val="000000"/>
                </a:solidFill>
                <a:latin typeface="Palatino Linotype"/>
              </a:rPr>
              <a:t>Giochi Sportivi Studenteschi</a:t>
            </a:r>
            <a:r>
              <a:rPr b="0" lang="it-IT" sz="1400" spc="-1" strike="noStrike">
                <a:solidFill>
                  <a:srgbClr val="000000"/>
                </a:solidFill>
                <a:latin typeface="Palatino Linotype"/>
              </a:rPr>
              <a:t>» se il progetto prevede la partecipazione ai campionati studenteschi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3" name="CasellaDiTesto 10"/>
          <p:cNvSpPr/>
          <p:nvPr/>
        </p:nvSpPr>
        <p:spPr>
          <a:xfrm>
            <a:off x="5076720" y="2995560"/>
            <a:ext cx="37004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Palatino Linotype"/>
              </a:rPr>
              <a:t>Spuntare «</a:t>
            </a:r>
            <a:r>
              <a:rPr b="0" i="1" lang="it-IT" sz="1400" spc="-1" strike="noStrike">
                <a:solidFill>
                  <a:srgbClr val="000000"/>
                </a:solidFill>
                <a:latin typeface="Palatino Linotype"/>
              </a:rPr>
              <a:t>altro progetto</a:t>
            </a:r>
            <a:r>
              <a:rPr b="0" lang="it-IT" sz="1400" spc="-1" strike="noStrike">
                <a:solidFill>
                  <a:srgbClr val="000000"/>
                </a:solidFill>
                <a:latin typeface="Palatino Linotype"/>
              </a:rPr>
              <a:t>» se la scuola non prevede di partecipare ai campionati, in questo caso si aprirà l’altra finestra relativa al progetto da compilare in tutti i dati richiesti, quindi caricare il file del progetto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Palatino Linotype"/>
              </a:rPr>
              <a:t>N.B. possono essere selezionati tutte e due le opzioni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4" name="CasellaDiTesto 11"/>
          <p:cNvSpPr/>
          <p:nvPr/>
        </p:nvSpPr>
        <p:spPr>
          <a:xfrm>
            <a:off x="5076720" y="4903920"/>
            <a:ext cx="3888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Palatino Linotype"/>
              </a:rPr>
              <a:t>Nel riquadro finanziario inserire il finanziamento richiesto, quindi cliccando su calcola importi verrà indicato l’importo del saldo richiesto dalla scuola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cxnSp>
        <p:nvCxnSpPr>
          <p:cNvPr id="145" name="Connettore 2 13"/>
          <p:cNvCxnSpPr/>
          <p:nvPr/>
        </p:nvCxnSpPr>
        <p:spPr>
          <a:xfrm flipH="1">
            <a:off x="3850920" y="1557000"/>
            <a:ext cx="1226160" cy="484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6" name="Connettore 2 15"/>
          <p:cNvCxnSpPr/>
          <p:nvPr/>
        </p:nvCxnSpPr>
        <p:spPr>
          <a:xfrm flipH="1">
            <a:off x="3276000" y="2204640"/>
            <a:ext cx="1943640" cy="31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7" name="Connettore 2 17"/>
          <p:cNvCxnSpPr/>
          <p:nvPr/>
        </p:nvCxnSpPr>
        <p:spPr>
          <a:xfrm flipH="1" flipV="1">
            <a:off x="3058560" y="2852280"/>
            <a:ext cx="2161080" cy="289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8" name="Connettore 2 20"/>
          <p:cNvCxnSpPr/>
          <p:nvPr/>
        </p:nvCxnSpPr>
        <p:spPr>
          <a:xfrm flipH="1">
            <a:off x="4426920" y="3573360"/>
            <a:ext cx="937080" cy="3312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9" name="Connettore 2 22"/>
          <p:cNvCxnSpPr/>
          <p:nvPr/>
        </p:nvCxnSpPr>
        <p:spPr>
          <a:xfrm flipH="1">
            <a:off x="4426920" y="5157720"/>
            <a:ext cx="937080" cy="432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0" name="Connettore 2 25"/>
          <p:cNvCxnSpPr/>
          <p:nvPr/>
        </p:nvCxnSpPr>
        <p:spPr>
          <a:xfrm flipH="1">
            <a:off x="4716000" y="5589360"/>
            <a:ext cx="1008720" cy="36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2f5897"/>
                </a:solidFill>
                <a:latin typeface="Palatino Linotype"/>
              </a:rPr>
              <a:t>INSERIMENTO DISCIPLINE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52" name="Segnaposto contenuto 6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5542200" cy="4525920"/>
          </a:xfrm>
          <a:prstGeom prst="rect">
            <a:avLst/>
          </a:prstGeom>
          <a:ln w="0">
            <a:noFill/>
          </a:ln>
        </p:spPr>
      </p:pic>
      <p:sp>
        <p:nvSpPr>
          <p:cNvPr id="153" name="Segnaposto data 3"/>
          <p:cNvSpPr/>
          <p:nvPr/>
        </p:nvSpPr>
        <p:spPr>
          <a:xfrm>
            <a:off x="636264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a.s. 2012/13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4" name="Segnaposto piè di pagina 4"/>
          <p:cNvSpPr/>
          <p:nvPr/>
        </p:nvSpPr>
        <p:spPr>
          <a:xfrm>
            <a:off x="65880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Inserimento discipline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5" name="Segnaposto numero diapositiva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F2E8-0B60-4054-82E7-78DEEFAC4216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6" name="CasellaDiTesto 7"/>
          <p:cNvSpPr/>
          <p:nvPr/>
        </p:nvSpPr>
        <p:spPr>
          <a:xfrm>
            <a:off x="5651640" y="765000"/>
            <a:ext cx="3313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Palatino Linotype"/>
              </a:rPr>
              <a:t>Dopo aver inserito i dati generali si può entrare nella pagina DISCIPLINE dove è possibile inserire le discipline che saranno attivate nella scuola, cliccando sul + per inserire nuove discipline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7" name="CasellaDiTesto 8"/>
          <p:cNvSpPr/>
          <p:nvPr/>
        </p:nvSpPr>
        <p:spPr>
          <a:xfrm>
            <a:off x="5796000" y="2006640"/>
            <a:ext cx="302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Palatino Linotype"/>
              </a:rPr>
              <a:t>Iniziare cliccando sul menù a discesa delle discipline e selezionare quella interessata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8" name="CasellaDiTesto 9"/>
          <p:cNvSpPr/>
          <p:nvPr/>
        </p:nvSpPr>
        <p:spPr>
          <a:xfrm>
            <a:off x="5796000" y="2744640"/>
            <a:ext cx="30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Palatino Linotyp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Palatino Linotype"/>
              </a:rPr>
              <a:t>Quindi selezionare la categoria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9" name="CasellaDiTesto 10"/>
          <p:cNvSpPr/>
          <p:nvPr/>
        </p:nvSpPr>
        <p:spPr>
          <a:xfrm>
            <a:off x="5796000" y="3052800"/>
            <a:ext cx="3024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Palatino Linotyp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Palatino Linotype"/>
              </a:rPr>
              <a:t>Selezionare la tipologia di gare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Palatino Linotype"/>
              </a:rPr>
              <a:t>«Gare Istituto» per le discipline che si svolgeranno solo nell’ambito d’Istituto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Palatino Linotype"/>
              </a:rPr>
              <a:t>«Tutte le gare» se la scuola parteciperà alle fasi successive (distrettuali, provinciali etc.)  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0" name="CasellaDiTesto 11"/>
          <p:cNvSpPr/>
          <p:nvPr/>
        </p:nvSpPr>
        <p:spPr>
          <a:xfrm>
            <a:off x="179280" y="5516640"/>
            <a:ext cx="864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Palatino Linotype"/>
              </a:rPr>
              <a:t>Nel riquadro in basso saranno elencate tutte le discipline selezionate, Sarà possibile modificare quanto inserito cliccando sull’icona a forma di matita, o cancellare una disciplina cliccando sulla X  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1" name="CasellaDiTesto 12"/>
          <p:cNvSpPr/>
          <p:nvPr/>
        </p:nvSpPr>
        <p:spPr>
          <a:xfrm>
            <a:off x="5796000" y="4653000"/>
            <a:ext cx="316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Palatino Linotype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Palatino Linotype"/>
              </a:rPr>
              <a:t>Indicare quindi il Docente responsabile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cxnSp>
        <p:nvCxnSpPr>
          <p:cNvPr id="162" name="Connettore 2 14"/>
          <p:cNvCxnSpPr/>
          <p:nvPr/>
        </p:nvCxnSpPr>
        <p:spPr>
          <a:xfrm flipH="1">
            <a:off x="2986920" y="2060640"/>
            <a:ext cx="2809080" cy="216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63" name="Connettore 2 18"/>
          <p:cNvCxnSpPr>
            <a:stCxn id="158" idx="1"/>
          </p:cNvCxnSpPr>
          <p:nvPr/>
        </p:nvCxnSpPr>
        <p:spPr>
          <a:xfrm flipH="1" flipV="1">
            <a:off x="3994920" y="2374560"/>
            <a:ext cx="1801080" cy="524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64" name="Connettore 2 20"/>
          <p:cNvCxnSpPr/>
          <p:nvPr/>
        </p:nvCxnSpPr>
        <p:spPr>
          <a:xfrm flipH="1" flipV="1">
            <a:off x="4895640" y="2374560"/>
            <a:ext cx="900720" cy="767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65" name="Connettore 2 22"/>
          <p:cNvCxnSpPr/>
          <p:nvPr/>
        </p:nvCxnSpPr>
        <p:spPr>
          <a:xfrm flipH="1" flipV="1">
            <a:off x="1835280" y="2636640"/>
            <a:ext cx="3961080" cy="2088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66" name="Connettore 2 24"/>
          <p:cNvCxnSpPr/>
          <p:nvPr/>
        </p:nvCxnSpPr>
        <p:spPr>
          <a:xfrm flipV="1">
            <a:off x="3419280" y="5299920"/>
            <a:ext cx="1873800" cy="478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67" name="Connettore 2 26"/>
          <p:cNvCxnSpPr/>
          <p:nvPr/>
        </p:nvCxnSpPr>
        <p:spPr>
          <a:xfrm flipH="1" flipV="1">
            <a:off x="5508360" y="5299920"/>
            <a:ext cx="1800720" cy="478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68" name="Connettore 2 28"/>
          <p:cNvCxnSpPr/>
          <p:nvPr/>
        </p:nvCxnSpPr>
        <p:spPr>
          <a:xfrm flipH="1">
            <a:off x="5508360" y="1773360"/>
            <a:ext cx="504000" cy="234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2f5897"/>
                </a:solidFill>
                <a:latin typeface="Palatino Linotype"/>
              </a:rPr>
              <a:t>INSERIMENTO ALUNNI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70" name="Segnaposto contenuto 6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5113440" cy="4526280"/>
          </a:xfrm>
          <a:prstGeom prst="rect">
            <a:avLst/>
          </a:prstGeom>
          <a:ln w="0">
            <a:noFill/>
          </a:ln>
        </p:spPr>
      </p:pic>
      <p:sp>
        <p:nvSpPr>
          <p:cNvPr id="171" name="Segnaposto data 3"/>
          <p:cNvSpPr/>
          <p:nvPr/>
        </p:nvSpPr>
        <p:spPr>
          <a:xfrm>
            <a:off x="636264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a.s.2012/13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2" name="Segnaposto piè di pagina 4"/>
          <p:cNvSpPr/>
          <p:nvPr/>
        </p:nvSpPr>
        <p:spPr>
          <a:xfrm>
            <a:off x="65880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Inserimento Alunni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3" name="Segnaposto numero diapositiva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1017-D290-455A-873F-C2A93F26F098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4" name="CasellaDiTesto 7"/>
          <p:cNvSpPr/>
          <p:nvPr/>
        </p:nvSpPr>
        <p:spPr>
          <a:xfrm>
            <a:off x="5419800" y="765000"/>
            <a:ext cx="36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Palatino Linotype"/>
              </a:rPr>
              <a:t>Nella pagina partecipanti sarà possibile inserire i dati di ogni singolo alunno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5" name="CasellaDiTesto 8"/>
          <p:cNvSpPr/>
          <p:nvPr/>
        </p:nvSpPr>
        <p:spPr>
          <a:xfrm>
            <a:off x="5468760" y="1413000"/>
            <a:ext cx="324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Palatino Linotype"/>
              </a:rPr>
              <a:t>Inserimento dei dati dell’alunno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Palatino Linotype"/>
              </a:rPr>
              <a:t>Nome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6" name="CasellaDiTesto 9"/>
          <p:cNvSpPr/>
          <p:nvPr/>
        </p:nvSpPr>
        <p:spPr>
          <a:xfrm>
            <a:off x="5435640" y="3083040"/>
            <a:ext cx="322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Palatino Linotype"/>
              </a:rPr>
              <a:t>Specificare se la partecipazione è di squadra o individuale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7" name="CasellaDiTesto 10"/>
          <p:cNvSpPr/>
          <p:nvPr/>
        </p:nvSpPr>
        <p:spPr>
          <a:xfrm>
            <a:off x="5508720" y="3606840"/>
            <a:ext cx="3240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Palatino Linotype"/>
              </a:rPr>
              <a:t>Nel caso di inserimento massivo dell’anagrafico degli alunni sarà sufficiente selezionare il nominativo e scegliere la disciplina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cxnSp>
        <p:nvCxnSpPr>
          <p:cNvPr id="178" name="Connettore 2 12"/>
          <p:cNvCxnSpPr/>
          <p:nvPr/>
        </p:nvCxnSpPr>
        <p:spPr>
          <a:xfrm flipH="1">
            <a:off x="1258200" y="1773000"/>
            <a:ext cx="4321800" cy="864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79" name="Connettore 2 14"/>
          <p:cNvCxnSpPr/>
          <p:nvPr/>
        </p:nvCxnSpPr>
        <p:spPr>
          <a:xfrm flipH="1">
            <a:off x="2915640" y="1989000"/>
            <a:ext cx="2664360" cy="648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80" name="Connettore 2 16"/>
          <p:cNvCxnSpPr/>
          <p:nvPr/>
        </p:nvCxnSpPr>
        <p:spPr>
          <a:xfrm flipH="1">
            <a:off x="4066920" y="2205000"/>
            <a:ext cx="1513440" cy="432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81" name="Connettore 2 18"/>
          <p:cNvCxnSpPr/>
          <p:nvPr/>
        </p:nvCxnSpPr>
        <p:spPr>
          <a:xfrm flipH="1">
            <a:off x="754920" y="2420640"/>
            <a:ext cx="4825080" cy="648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82" name="Connettore 2 20"/>
          <p:cNvCxnSpPr/>
          <p:nvPr/>
        </p:nvCxnSpPr>
        <p:spPr>
          <a:xfrm flipH="1">
            <a:off x="3131640" y="2628720"/>
            <a:ext cx="2448720" cy="440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3" name="CasellaDiTesto 21"/>
          <p:cNvSpPr/>
          <p:nvPr/>
        </p:nvSpPr>
        <p:spPr>
          <a:xfrm>
            <a:off x="5472000" y="1835280"/>
            <a:ext cx="32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Palatino Linotype"/>
              </a:rPr>
              <a:t>Cognome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4" name="CasellaDiTesto 22"/>
          <p:cNvSpPr/>
          <p:nvPr/>
        </p:nvSpPr>
        <p:spPr>
          <a:xfrm>
            <a:off x="5435640" y="2050920"/>
            <a:ext cx="327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Palatino Linotype"/>
              </a:rPr>
              <a:t>Data di nascita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5" name="CasellaDiTesto 23"/>
          <p:cNvSpPr/>
          <p:nvPr/>
        </p:nvSpPr>
        <p:spPr>
          <a:xfrm>
            <a:off x="5435640" y="2266920"/>
            <a:ext cx="327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Palatino Linotype"/>
              </a:rPr>
              <a:t>Sesso 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6" name="CasellaDiTesto 24"/>
          <p:cNvSpPr/>
          <p:nvPr/>
        </p:nvSpPr>
        <p:spPr>
          <a:xfrm>
            <a:off x="5456160" y="2475000"/>
            <a:ext cx="327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Palatino Linotype"/>
              </a:rPr>
              <a:t>Eventuali disabilità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7" name="CasellaDiTesto 41"/>
          <p:cNvSpPr/>
          <p:nvPr/>
        </p:nvSpPr>
        <p:spPr>
          <a:xfrm>
            <a:off x="5435640" y="276084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Palatino Linotype"/>
              </a:rPr>
              <a:t>Inserimento della disciplina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cxnSp>
        <p:nvCxnSpPr>
          <p:cNvPr id="188" name="Connettore 2 43"/>
          <p:cNvCxnSpPr/>
          <p:nvPr/>
        </p:nvCxnSpPr>
        <p:spPr>
          <a:xfrm flipH="1">
            <a:off x="3634920" y="2914200"/>
            <a:ext cx="1945440" cy="586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89" name="Connettore 2 45"/>
          <p:cNvCxnSpPr/>
          <p:nvPr/>
        </p:nvCxnSpPr>
        <p:spPr>
          <a:xfrm flipH="1">
            <a:off x="4355640" y="3207960"/>
            <a:ext cx="1224720" cy="2926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90" name="Connettore 2 47"/>
          <p:cNvCxnSpPr/>
          <p:nvPr/>
        </p:nvCxnSpPr>
        <p:spPr>
          <a:xfrm flipH="1" flipV="1">
            <a:off x="4427280" y="3082680"/>
            <a:ext cx="1152720" cy="7070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91" name="Immagine 48" descr=""/>
          <p:cNvPicPr/>
          <p:nvPr/>
        </p:nvPicPr>
        <p:blipFill>
          <a:blip r:embed="rId3"/>
          <a:stretch/>
        </p:blipFill>
        <p:spPr>
          <a:xfrm>
            <a:off x="5478480" y="4869000"/>
            <a:ext cx="2395440" cy="1481040"/>
          </a:xfrm>
          <a:prstGeom prst="rect">
            <a:avLst/>
          </a:prstGeom>
          <a:ln w="0">
            <a:noFill/>
          </a:ln>
        </p:spPr>
      </p:pic>
      <p:sp>
        <p:nvSpPr>
          <p:cNvPr id="192" name="CasellaDiTesto 49"/>
          <p:cNvSpPr/>
          <p:nvPr/>
        </p:nvSpPr>
        <p:spPr>
          <a:xfrm>
            <a:off x="6227640" y="456084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Palatino Linotype"/>
              </a:rPr>
              <a:t>LEGENDA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2f5897"/>
                </a:solidFill>
                <a:latin typeface="Palatino Linotype"/>
              </a:rPr>
              <a:t>STAMPA MOD B1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94" name="Segnaposto contenuto 6" descr=""/>
          <p:cNvPicPr/>
          <p:nvPr/>
        </p:nvPicPr>
        <p:blipFill>
          <a:blip r:embed="rId2"/>
          <a:stretch/>
        </p:blipFill>
        <p:spPr>
          <a:xfrm>
            <a:off x="108000" y="836640"/>
            <a:ext cx="5800680" cy="4525920"/>
          </a:xfrm>
          <a:prstGeom prst="rect">
            <a:avLst/>
          </a:prstGeom>
          <a:ln w="0">
            <a:noFill/>
          </a:ln>
        </p:spPr>
      </p:pic>
      <p:sp>
        <p:nvSpPr>
          <p:cNvPr id="195" name="Segnaposto data 3"/>
          <p:cNvSpPr/>
          <p:nvPr/>
        </p:nvSpPr>
        <p:spPr>
          <a:xfrm>
            <a:off x="636264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a.s. 2012/13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6" name="Segnaposto piè di pagina 4"/>
          <p:cNvSpPr/>
          <p:nvPr/>
        </p:nvSpPr>
        <p:spPr>
          <a:xfrm>
            <a:off x="65880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Stampa Mod. B1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7" name="Segnaposto numero diapositiva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2ECC-EFA1-4777-977E-EAE7A65E5FF8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8" name="CasellaDiTesto 7"/>
          <p:cNvSpPr/>
          <p:nvPr/>
        </p:nvSpPr>
        <p:spPr>
          <a:xfrm>
            <a:off x="5940360" y="836640"/>
            <a:ext cx="302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Palatino Linotype"/>
              </a:rPr>
              <a:t>La piattaforma offre la possibilità di generare mod. B1 in PDF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9" name="CasellaDiTesto 9"/>
          <p:cNvSpPr/>
          <p:nvPr/>
        </p:nvSpPr>
        <p:spPr>
          <a:xfrm>
            <a:off x="6012000" y="1413000"/>
            <a:ext cx="28810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Palatino Linotype"/>
              </a:rPr>
              <a:t>Esistono due modalità di creazione di file PDF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Palatino Linotype"/>
              </a:rPr>
              <a:t>Cliccare direttamente sull’icona del PDF , in questo modo  tutti gli alunni inseriti in quella disciplina saranno inseriti nel PDF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0" name="CasellaDiTesto 10"/>
          <p:cNvSpPr/>
          <p:nvPr/>
        </p:nvSpPr>
        <p:spPr>
          <a:xfrm>
            <a:off x="6156360" y="3213000"/>
            <a:ext cx="27367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Palatino Linotyp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Palatino Linotype"/>
              </a:rPr>
              <a:t>Aprendo l’elenco della disciplina, cliccando sulla freccia, si visualizzeranno tutti i nominativi inseriti, quindi spuntare gli alunni da inserire e cliccare sul tasto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Palatino Linotype"/>
              </a:rPr>
              <a:t>        </a:t>
            </a:r>
            <a:r>
              <a:rPr b="1" i="1" lang="it-IT" sz="1400" spc="-1" strike="noStrike">
                <a:solidFill>
                  <a:srgbClr val="ff0000"/>
                </a:solidFill>
                <a:latin typeface="Palatino Linotype"/>
              </a:rPr>
              <a:t>Genera PDF dei selezionati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cxnSp>
        <p:nvCxnSpPr>
          <p:cNvPr id="201" name="Connettore 2 12"/>
          <p:cNvCxnSpPr/>
          <p:nvPr/>
        </p:nvCxnSpPr>
        <p:spPr>
          <a:xfrm flipH="1">
            <a:off x="5795280" y="1989000"/>
            <a:ext cx="577080" cy="432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02" name="Connettore 2 14"/>
          <p:cNvCxnSpPr/>
          <p:nvPr/>
        </p:nvCxnSpPr>
        <p:spPr>
          <a:xfrm flipH="1" flipV="1">
            <a:off x="394920" y="3644640"/>
            <a:ext cx="6122160" cy="72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03" name="Connettore 2 16"/>
          <p:cNvCxnSpPr/>
          <p:nvPr/>
        </p:nvCxnSpPr>
        <p:spPr>
          <a:xfrm flipH="1">
            <a:off x="5795640" y="4941360"/>
            <a:ext cx="721440" cy="288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07:25:03Z</dcterms:created>
  <dc:creator>prof. Antonio Marini</dc:creator>
  <dc:description/>
  <dc:language>en-US</dc:language>
  <cp:lastModifiedBy>M.I.U.R.</cp:lastModifiedBy>
  <dcterms:modified xsi:type="dcterms:W3CDTF">2013-02-08T08:35:53Z</dcterms:modified>
  <cp:revision>29</cp:revision>
  <dc:subject/>
  <dc:title>Giochi Sportivi Studenteschi</dc:title>
</cp:coreProperties>
</file>